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92A0-24FA-44FA-BBDA-B64EE7A0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8DF9-C28E-48AD-8C7D-4C2EBD09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8D1D-46BF-4DDE-976F-C8A41E06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B150-7ABC-4B49-9101-28C7296F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0E3-77F9-4BB7-A190-5956132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D960-FBE4-4E1C-8A3B-2D7FFC08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13D6-3805-459F-8AAE-34F28670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2D9B-F0E6-4364-B6A7-79AAE13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D246-29F2-4032-980C-0A39DB5B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2B2E-B3E2-43DE-85E6-6CF60E5D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DFA-D623-4A84-B71E-CB91F85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DE20-3FF2-4067-935E-FD7DB7B3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5677-5FF7-4426-A84B-8B12746F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2A9F-76E0-4D43-9B58-13DCA5B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E60A-2258-4918-9985-EE9E3680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2E86-2A70-4532-A133-AE651E6B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7BBF-BE64-4020-A19C-C12D5276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6A05-E8E3-4257-8FAF-E309F6F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D3A2-39D8-4F8B-9B5F-FE967B31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86D0-2CE5-45D4-A830-BA6F9807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254A-AF6E-423E-A00E-87125E6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6E51-FC58-46E4-A3F7-AEC6876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A07D-4784-4ED7-871F-364B5A8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0203-0DE8-4087-9565-F4D388E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4398-ABC9-4197-BA7E-0C6B7CDE9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287-A248-48EF-B298-41C6D954B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MBAs Who Laund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Eugenia Chi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Alan L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Brian Rhe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Fern W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washers/3 dryers/2 trucks to meet the forecasted dem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ily profit increases from $1,107 to $1,792 (in comparison to Ladies Who Launder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ual profit increases = $210,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Increase is attributed t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 from 1) ironed sheets, 2) napkins, 3) blan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666880"/>
          <a:ext cx="77724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6880"/>
                    <a:ext cx="7772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siness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dvise premium home delivery laundry services to busy New Yorkers in Manhattan, such as Ladies Who Laun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determine the optimal operating strategy in order to maximize operating efficienc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determine the optimal pricing strategy in order to maximize overall daily profitabil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08360" y="19890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back office receives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147680" cy="158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620640"/>
            <a:ext cx="831960" cy="647640"/>
          </a:xfrm>
          <a:prstGeom prst="rightArrow">
            <a:avLst>
              <a:gd name="adj1" fmla="val 50000"/>
              <a:gd name="adj2" fmla="val 321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07000">
            <a:off x="6021000" y="711000"/>
            <a:ext cx="647640" cy="698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529760" y="2342160"/>
            <a:ext cx="689040" cy="84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4797360"/>
            <a:ext cx="936720" cy="649440"/>
          </a:xfrm>
          <a:prstGeom prst="leftArrow">
            <a:avLst>
              <a:gd name="adj1" fmla="val 50000"/>
              <a:gd name="adj2" fmla="val 360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452200">
            <a:off x="1979280" y="5157360"/>
            <a:ext cx="689040" cy="555840"/>
          </a:xfrm>
          <a:prstGeom prst="leftArrow">
            <a:avLst>
              <a:gd name="adj1" fmla="val 50000"/>
              <a:gd name="adj2" fmla="val 3099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265400" y="1909800"/>
            <a:ext cx="576000" cy="5889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093000"/>
            <a:ext cx="1728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8 hour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6093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picks up the laund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55736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 places an order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91628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 may leave laundry bag with doo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6093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perform customized laundry 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65300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drops off the laund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35280" y="26028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1481040" cy="11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51640" y="3284640"/>
            <a:ext cx="12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348000" y="4221000"/>
            <a:ext cx="2181240" cy="1695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68360" y="2852640"/>
            <a:ext cx="1955880" cy="1781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916360" y="285264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MBAs Who Launder</a:t>
            </a:r>
            <a:endParaRPr b="1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816360" cy="5689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92360" y="189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eographic Operating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umptions (Cost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808200" y="173340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308 Business days (365-52 Sundays - 5 holiday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Rent Expense is $2,100/mon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Utility cost is $33/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A washer or a dryer would cost $2300. Assume a useful life of 10 years using straight line depreci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Wages– Minimum wage $6.25 per hour.  60 hours/we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Salaries – Salary of $31,200 per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GMC truck (full size) costs $25,000.  Assume a useful life of 5 years using straight line deprec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2 workers are needed per washer and dr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umptions (Custome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435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Average 41.6 customers per day (STDV = 9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Average 1.57 loads per customer (STDV = 0.1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Average truck travel distance by route = 35 m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Maximum volume increase from price discount = 25% over original volu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st Analysis – Using Crystal B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rofit Optimization – Using Sol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4:44:23Z</dcterms:created>
  <dc:creator>EYChiang</dc:creator>
  <dc:description/>
  <dc:language>en-US</dc:language>
  <cp:lastModifiedBy>EYChiang</cp:lastModifiedBy>
  <dcterms:modified xsi:type="dcterms:W3CDTF">2004-05-06T03:52:41Z</dcterms:modified>
  <cp:revision>14</cp:revision>
  <dc:subject/>
  <dc:title>投影片 1</dc:title>
</cp:coreProperties>
</file>